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096-E97F-4C69-9F28-1336CE19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2BE-C620-4131-BC03-DFC0FBD7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E99-E529-4B7D-86C1-3A29BABE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234-781C-4034-94EF-64A35499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1AC7-1EB4-4915-921B-827C3AC9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A69F-5B60-4E99-80DE-5FAFCE20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62BA-E902-4AD6-96C8-C5962B2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2FE1-067F-4D9E-8AFA-BFE968AC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7FD-8B87-4555-AEF2-79AED15A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3891-CCBA-4BB7-8D3E-F23D5F99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E3E9-1C43-4572-8AF3-6CBD3966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01E-EC4F-4CEA-98B3-E9539D26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CDA2-DE6E-439D-B43C-FA64B184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8006-31A3-4213-9DFE-CD2F12EA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5B4B-1D9C-4F6A-B7B5-EBD67835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771E-B3DC-4B82-8D7A-E94ECE90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8FC3-85F9-44D6-907D-F411F409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184-F773-4DA2-A526-6CA6748B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5EF-97C1-43CF-ADB2-12C93B66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071-1D59-4F2E-AA79-519ED6E5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A5F-8B1B-4879-97E7-0D88B6B0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677-38E6-4AAD-AF78-C03DC67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19C-0A31-46E5-8E6E-25C1BA65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9A2-AA19-42E1-8F06-4600B13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0AF7-6C55-4BD7-9197-015C91FC2EA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630A-606C-48EB-9222-2586CADDD78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55840" y="3906360"/>
            <a:ext cx="622296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14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5" descr="10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guoqi"/>
          <p:cNvPicPr/>
          <p:nvPr/>
        </p:nvPicPr>
        <p:blipFill>
          <a:blip r:embed="rId4"/>
          <a:stretch/>
        </p:blipFill>
        <p:spPr>
          <a:xfrm>
            <a:off x="-4680" y="0"/>
            <a:ext cx="9148680" cy="40179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09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党徽"/>
          <p:cNvPicPr/>
          <p:nvPr/>
        </p:nvPicPr>
        <p:blipFill>
          <a:blip r:embed="rId6"/>
          <a:stretch/>
        </p:blipFill>
        <p:spPr>
          <a:xfrm>
            <a:off x="2986200" y="0"/>
            <a:ext cx="2727360" cy="165888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"/>
          <p:cNvSpPr/>
          <p:nvPr/>
        </p:nvSpPr>
        <p:spPr>
          <a:xfrm>
            <a:off x="2486160" y="1695600"/>
            <a:ext cx="68022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      </a:t>
            </a: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看  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习十八届五中全会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1415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012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日，中共十八大闭幕，刚获选中央候补委员的时任四川省委副书记李春城接受组织调查，拉开反腐序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十八届五中全会，审议并通过了中共中央纪律检查委员会关于令计划、周本顺、杨栋梁、朱明国、王敏、陈川平、仇和、杨卫泽、潘逸阳、余远辉严重违纪问题的审查报告，确认中央政治局之前作出的给予令计划、周本顺、杨栋梁、朱明国、王敏、陈川平、仇和、杨卫泽、潘逸阳、余远辉开除党籍的处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7520" y="398520"/>
            <a:ext cx="17906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看点三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8440" y="2178000"/>
            <a:ext cx="8539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一、十三五规划审议通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二、全面放开二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三、关于中央人事调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" descr="7107707_290441.jpg"/>
          <p:cNvPicPr/>
          <p:nvPr/>
        </p:nvPicPr>
        <p:blipFill>
          <a:blip r:embed="rId2"/>
          <a:stretch/>
        </p:blipFill>
        <p:spPr>
          <a:xfrm>
            <a:off x="5280120" y="0"/>
            <a:ext cx="38638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华文隶书"/>
              </a:rPr>
              <a:t>十三五规划解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3200" y="2306160"/>
            <a:ext cx="785664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Verdana"/>
              </a:rPr>
              <a:t>是全面建成小康社会决胜阶段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Verdana"/>
              </a:rPr>
              <a:t>是中国第一个百年梦想实现的时间节点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将四个全面作为规划指导思想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6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9"/>
          <p:cNvSpPr/>
          <p:nvPr/>
        </p:nvSpPr>
        <p:spPr>
          <a:xfrm>
            <a:off x="228600" y="384120"/>
            <a:ext cx="753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十三五</a:t>
            </a:r>
            <a:r>
              <a:rPr b="1" lang="en-US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面临的挑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八角星 3"/>
          <p:cNvSpPr/>
          <p:nvPr/>
        </p:nvSpPr>
        <p:spPr>
          <a:xfrm>
            <a:off x="2752560" y="2262240"/>
            <a:ext cx="3105360" cy="3725640"/>
          </a:xfrm>
          <a:custGeom>
            <a:avLst/>
            <a:gdLst>
              <a:gd name="textAreaLeft" fmla="*/ 708840 w 3105360"/>
              <a:gd name="textAreaRight" fmla="*/ 2396520 w 3105360"/>
              <a:gd name="textAreaTop" fmla="*/ 850320 h 3725640"/>
              <a:gd name="textAreaBottom" fmla="*/ 2875320 h 372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03640" y="3379320"/>
            <a:ext cx="234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三五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期间要解决什么问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副标题 10"/>
          <p:cNvSpPr/>
          <p:nvPr/>
        </p:nvSpPr>
        <p:spPr>
          <a:xfrm>
            <a:off x="2928960" y="1697040"/>
            <a:ext cx="2932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消除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副标题 10"/>
          <p:cNvSpPr/>
          <p:nvPr/>
        </p:nvSpPr>
        <p:spPr>
          <a:xfrm>
            <a:off x="5407200" y="2344680"/>
            <a:ext cx="3381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发展方式粗放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副标题 10"/>
          <p:cNvSpPr/>
          <p:nvPr/>
        </p:nvSpPr>
        <p:spPr>
          <a:xfrm>
            <a:off x="5878440" y="3451320"/>
            <a:ext cx="3183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城乡区域发展不平衡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副标题 10"/>
          <p:cNvSpPr/>
          <p:nvPr/>
        </p:nvSpPr>
        <p:spPr>
          <a:xfrm>
            <a:off x="5397480" y="4782960"/>
            <a:ext cx="35528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资源环境的约束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副标题 10"/>
          <p:cNvSpPr/>
          <p:nvPr/>
        </p:nvSpPr>
        <p:spPr>
          <a:xfrm>
            <a:off x="2001960" y="6060960"/>
            <a:ext cx="48592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使人民的素质进一步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副标题 10"/>
          <p:cNvSpPr/>
          <p:nvPr/>
        </p:nvSpPr>
        <p:spPr>
          <a:xfrm>
            <a:off x="68400" y="4724280"/>
            <a:ext cx="3105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充分提供基本公共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副标题 10"/>
          <p:cNvSpPr/>
          <p:nvPr/>
        </p:nvSpPr>
        <p:spPr>
          <a:xfrm>
            <a:off x="39600" y="3483000"/>
            <a:ext cx="2801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法制社会的建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副标题 10"/>
          <p:cNvSpPr/>
          <p:nvPr/>
        </p:nvSpPr>
        <p:spPr>
          <a:xfrm>
            <a:off x="69840" y="2403360"/>
            <a:ext cx="31431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提高党的领导水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22529"/>
          <p:cNvGrpSpPr/>
          <p:nvPr/>
        </p:nvGrpSpPr>
        <p:grpSpPr>
          <a:xfrm>
            <a:off x="417600" y="5570640"/>
            <a:ext cx="3002040" cy="641160"/>
            <a:chOff x="417600" y="5570640"/>
            <a:chExt cx="3002040" cy="641160"/>
          </a:xfrm>
        </p:grpSpPr>
        <p:sp>
          <p:nvSpPr>
            <p:cNvPr id="110" name="矩形 38"/>
            <p:cNvSpPr/>
            <p:nvPr/>
          </p:nvSpPr>
          <p:spPr>
            <a:xfrm>
              <a:off x="417600" y="5570640"/>
              <a:ext cx="3002040" cy="641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433080" y="5586480"/>
              <a:ext cx="287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7</a:t>
              </a:r>
              <a:r>
                <a:rPr b="1" lang="zh-CN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、制度更加成熟、定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6"/>
          <p:cNvGrpSpPr/>
          <p:nvPr/>
        </p:nvGrpSpPr>
        <p:grpSpPr>
          <a:xfrm>
            <a:off x="4257720" y="4184640"/>
            <a:ext cx="4275000" cy="630360"/>
            <a:chOff x="4257720" y="4184640"/>
            <a:chExt cx="4275000" cy="630360"/>
          </a:xfrm>
        </p:grpSpPr>
        <p:sp>
          <p:nvSpPr>
            <p:cNvPr id="113" name="Rectangle 13"/>
            <p:cNvSpPr/>
            <p:nvPr/>
          </p:nvSpPr>
          <p:spPr>
            <a:xfrm>
              <a:off x="4520160" y="4205520"/>
              <a:ext cx="3618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4</a:t>
              </a:r>
              <a:r>
                <a:rPr b="1" lang="zh-CN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、加快提高户籍人口城镇化率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32"/>
            <p:cNvSpPr/>
            <p:nvPr/>
          </p:nvSpPr>
          <p:spPr>
            <a:xfrm>
              <a:off x="4257720" y="4184640"/>
              <a:ext cx="4275000" cy="6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5"/>
          <p:cNvGrpSpPr/>
          <p:nvPr/>
        </p:nvGrpSpPr>
        <p:grpSpPr>
          <a:xfrm>
            <a:off x="369720" y="4167360"/>
            <a:ext cx="4089600" cy="641160"/>
            <a:chOff x="369720" y="4167360"/>
            <a:chExt cx="4089600" cy="641160"/>
          </a:xfrm>
        </p:grpSpPr>
        <p:sp>
          <p:nvSpPr>
            <p:cNvPr id="116" name="矩形 22"/>
            <p:cNvSpPr/>
            <p:nvPr/>
          </p:nvSpPr>
          <p:spPr>
            <a:xfrm>
              <a:off x="369720" y="4167360"/>
              <a:ext cx="4000320" cy="641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409320" y="4192560"/>
              <a:ext cx="4050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方正小标宋_GBK"/>
                  <a:ea typeface="方正小标宋_GBK"/>
                </a:rPr>
                <a:t>3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小标宋_GBK"/>
                  <a:ea typeface="方正小标宋_GBK"/>
                </a:rPr>
                <a:t>、消费对经济增长的贡献明显提升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矩形 4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3"/>
          <p:cNvSpPr/>
          <p:nvPr/>
        </p:nvSpPr>
        <p:spPr>
          <a:xfrm>
            <a:off x="485640" y="1409760"/>
            <a:ext cx="5965920" cy="676080"/>
          </a:xfrm>
          <a:prstGeom prst="roundRect">
            <a:avLst>
              <a:gd name="adj" fmla="val 2000"/>
            </a:avLst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lin ang="19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副标题 2"/>
          <p:cNvSpPr/>
          <p:nvPr/>
        </p:nvSpPr>
        <p:spPr>
          <a:xfrm>
            <a:off x="463680" y="1479600"/>
            <a:ext cx="5960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发展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2"/>
          <p:cNvGrpSpPr/>
          <p:nvPr/>
        </p:nvGrpSpPr>
        <p:grpSpPr>
          <a:xfrm>
            <a:off x="4838760" y="2322360"/>
            <a:ext cx="4087800" cy="611280"/>
            <a:chOff x="4838760" y="2322360"/>
            <a:chExt cx="4087800" cy="611280"/>
          </a:xfrm>
        </p:grpSpPr>
        <p:sp>
          <p:nvSpPr>
            <p:cNvPr id="122" name="线形标注 1(带强调线) 1"/>
            <p:cNvSpPr/>
            <p:nvPr/>
          </p:nvSpPr>
          <p:spPr>
            <a:xfrm>
              <a:off x="4838760" y="2322360"/>
              <a:ext cx="4087800" cy="61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5269" y="-6340"/>
                  </a:moveTo>
                  <a:lnTo>
                    <a:pt x="-549" y="12883"/>
                  </a:lnTo>
                </a:path>
                <a:path w="21600" h="21600">
                  <a:moveTo>
                    <a:pt x="-549" y="0"/>
                  </a:moveTo>
                  <a:lnTo>
                    <a:pt x="-549" y="21600"/>
                  </a:lnTo>
                </a:path>
              </a:pathLst>
            </a:custGeom>
            <a:solidFill>
              <a:srgbClr val="a3b2c1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30"/>
            <p:cNvSpPr/>
            <p:nvPr/>
          </p:nvSpPr>
          <p:spPr>
            <a:xfrm>
              <a:off x="5086440" y="2448000"/>
              <a:ext cx="35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总目标</a:t>
              </a:r>
              <a:r>
                <a:rPr b="1" lang="en-US" sz="20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——</a:t>
              </a:r>
              <a:r>
                <a:rPr b="1" lang="zh-CN" sz="20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全面建成小康社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"/>
          <p:cNvGrpSpPr/>
          <p:nvPr/>
        </p:nvGrpSpPr>
        <p:grpSpPr>
          <a:xfrm>
            <a:off x="1027080" y="2629080"/>
            <a:ext cx="2349360" cy="501480"/>
            <a:chOff x="1027080" y="2629080"/>
            <a:chExt cx="2349360" cy="501480"/>
          </a:xfrm>
        </p:grpSpPr>
        <p:sp>
          <p:nvSpPr>
            <p:cNvPr id="125" name="线形标注 2 8"/>
            <p:cNvSpPr/>
            <p:nvPr/>
          </p:nvSpPr>
          <p:spPr>
            <a:xfrm>
              <a:off x="1027080" y="2629080"/>
              <a:ext cx="2349360" cy="501480"/>
            </a:xfrm>
            <a:prstGeom prst="borderCallout2">
              <a:avLst>
                <a:gd name="adj1" fmla="val 18750"/>
                <a:gd name="adj2" fmla="val -8333"/>
                <a:gd name="adj3" fmla="val 20754"/>
                <a:gd name="adj4" fmla="val -26592"/>
                <a:gd name="adj5" fmla="val -97337"/>
                <a:gd name="adj6" fmla="val -2578"/>
              </a:avLst>
            </a:prstGeom>
            <a:solidFill>
              <a:srgbClr val="a3b2c1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13"/>
            <p:cNvSpPr/>
            <p:nvPr/>
          </p:nvSpPr>
          <p:spPr>
            <a:xfrm>
              <a:off x="1109520" y="2685960"/>
              <a:ext cx="22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8</a:t>
              </a:r>
              <a:r>
                <a:rPr b="1" lang="zh-CN" sz="20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项具体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双括号 15"/>
          <p:cNvSpPr/>
          <p:nvPr/>
        </p:nvSpPr>
        <p:spPr>
          <a:xfrm>
            <a:off x="263520" y="3273480"/>
            <a:ext cx="8626320" cy="3101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3"/>
          <p:cNvGrpSpPr/>
          <p:nvPr/>
        </p:nvGrpSpPr>
        <p:grpSpPr>
          <a:xfrm>
            <a:off x="480960" y="3427560"/>
            <a:ext cx="3672000" cy="642960"/>
            <a:chOff x="480960" y="3427560"/>
            <a:chExt cx="3672000" cy="642960"/>
          </a:xfrm>
        </p:grpSpPr>
        <p:sp>
          <p:nvSpPr>
            <p:cNvPr id="129" name="矩形 16"/>
            <p:cNvSpPr/>
            <p:nvPr/>
          </p:nvSpPr>
          <p:spPr>
            <a:xfrm>
              <a:off x="480960" y="3427560"/>
              <a:ext cx="3672000" cy="6429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532800" y="3452760"/>
              <a:ext cx="3066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方正小标宋_GBK"/>
                  <a:ea typeface="方正小标宋_GBK"/>
                </a:rPr>
                <a:t>1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小标宋_GBK"/>
                  <a:ea typeface="方正小标宋_GBK"/>
                </a:rPr>
                <a:t>、保持经济中高速增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4"/>
          <p:cNvGrpSpPr/>
          <p:nvPr/>
        </p:nvGrpSpPr>
        <p:grpSpPr>
          <a:xfrm>
            <a:off x="4199040" y="3443400"/>
            <a:ext cx="4338360" cy="628560"/>
            <a:chOff x="4199040" y="3443400"/>
            <a:chExt cx="4338360" cy="628560"/>
          </a:xfrm>
        </p:grpSpPr>
        <p:sp>
          <p:nvSpPr>
            <p:cNvPr id="132" name="矩形 18"/>
            <p:cNvSpPr/>
            <p:nvPr/>
          </p:nvSpPr>
          <p:spPr>
            <a:xfrm>
              <a:off x="4199040" y="3443400"/>
              <a:ext cx="4338360" cy="6285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"/>
            <p:cNvSpPr/>
            <p:nvPr/>
          </p:nvSpPr>
          <p:spPr>
            <a:xfrm>
              <a:off x="4264200" y="3453480"/>
              <a:ext cx="4091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      </a:t>
              </a:r>
              <a:r>
                <a:rPr b="1" lang="en-US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2</a:t>
              </a:r>
              <a:r>
                <a:rPr b="1" lang="zh-CN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、产业迈向中高端水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7"/>
          <p:cNvGrpSpPr/>
          <p:nvPr/>
        </p:nvGrpSpPr>
        <p:grpSpPr>
          <a:xfrm>
            <a:off x="279360" y="4883040"/>
            <a:ext cx="3913200" cy="645840"/>
            <a:chOff x="279360" y="4883040"/>
            <a:chExt cx="3913200" cy="645840"/>
          </a:xfrm>
        </p:grpSpPr>
        <p:sp>
          <p:nvSpPr>
            <p:cNvPr id="135" name="Rectangle 13"/>
            <p:cNvSpPr/>
            <p:nvPr/>
          </p:nvSpPr>
          <p:spPr>
            <a:xfrm>
              <a:off x="317520" y="4883040"/>
              <a:ext cx="3875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5</a:t>
              </a:r>
              <a:r>
                <a:rPr b="1" lang="zh-CN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、普遍提高人民生活水平的质量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34"/>
            <p:cNvSpPr/>
            <p:nvPr/>
          </p:nvSpPr>
          <p:spPr>
            <a:xfrm>
              <a:off x="279360" y="4885200"/>
              <a:ext cx="3767760" cy="64368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8"/>
          <p:cNvGrpSpPr/>
          <p:nvPr/>
        </p:nvGrpSpPr>
        <p:grpSpPr>
          <a:xfrm>
            <a:off x="4210200" y="4890960"/>
            <a:ext cx="4748040" cy="630360"/>
            <a:chOff x="4210200" y="4890960"/>
            <a:chExt cx="4748040" cy="630360"/>
          </a:xfrm>
        </p:grpSpPr>
        <p:sp>
          <p:nvSpPr>
            <p:cNvPr id="138" name="Rectangle 13"/>
            <p:cNvSpPr/>
            <p:nvPr/>
          </p:nvSpPr>
          <p:spPr>
            <a:xfrm>
              <a:off x="4210200" y="4901760"/>
              <a:ext cx="4748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6</a:t>
              </a:r>
              <a:r>
                <a:rPr b="1" lang="zh-CN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、使国民素质和社会文明程度显著提高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6"/>
            <p:cNvSpPr/>
            <p:nvPr/>
          </p:nvSpPr>
          <p:spPr>
            <a:xfrm>
              <a:off x="4213440" y="4890960"/>
              <a:ext cx="4312800" cy="6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22553"/>
          <p:cNvGrpSpPr/>
          <p:nvPr/>
        </p:nvGrpSpPr>
        <p:grpSpPr>
          <a:xfrm>
            <a:off x="3281400" y="5584680"/>
            <a:ext cx="5253120" cy="641520"/>
            <a:chOff x="3281400" y="5584680"/>
            <a:chExt cx="5253120" cy="641520"/>
          </a:xfrm>
        </p:grpSpPr>
        <p:sp>
          <p:nvSpPr>
            <p:cNvPr id="141" name="矩形 38"/>
            <p:cNvSpPr/>
            <p:nvPr/>
          </p:nvSpPr>
          <p:spPr>
            <a:xfrm>
              <a:off x="3281400" y="5584680"/>
              <a:ext cx="5253120" cy="641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3308040" y="5601240"/>
              <a:ext cx="5022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8</a:t>
              </a:r>
              <a:r>
                <a:rPr b="1" lang="zh-CN" sz="1800" spc="-1" strike="noStrike">
                  <a:solidFill>
                    <a:srgbClr val="3f3f3f"/>
                  </a:solidFill>
                  <a:latin typeface="方正小标宋_GBK"/>
                  <a:ea typeface="方正小标宋_GBK"/>
                </a:rPr>
                <a:t>、国家治理体系和能力现代化取得重大进展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4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3"/>
          <p:cNvSpPr/>
          <p:nvPr/>
        </p:nvSpPr>
        <p:spPr>
          <a:xfrm>
            <a:off x="485640" y="1409760"/>
            <a:ext cx="7858440" cy="676080"/>
          </a:xfrm>
          <a:prstGeom prst="roundRect">
            <a:avLst>
              <a:gd name="adj" fmla="val 2000"/>
            </a:avLst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lin ang="19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副标题 2"/>
          <p:cNvSpPr/>
          <p:nvPr/>
        </p:nvSpPr>
        <p:spPr>
          <a:xfrm>
            <a:off x="-165240" y="1484280"/>
            <a:ext cx="8831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发展理念：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创新发展、协调发展、绿色发展、开放发展、共享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182BDB9BF815C04ECFEEB04AB6B0323B"/>
          <p:cNvPicPr/>
          <p:nvPr/>
        </p:nvPicPr>
        <p:blipFill>
          <a:blip r:embed="rId2"/>
          <a:srcRect l="0" t="10455" r="0" b="2845"/>
          <a:stretch/>
        </p:blipFill>
        <p:spPr>
          <a:xfrm>
            <a:off x="1441440" y="2230560"/>
            <a:ext cx="6297480" cy="4135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u=1157322407,2741059091&amp;fm=11&amp;gp=0"/>
          <p:cNvPicPr/>
          <p:nvPr/>
        </p:nvPicPr>
        <p:blipFill>
          <a:blip r:embed="rId2"/>
          <a:srcRect l="0" t="11199" r="0" b="7785"/>
          <a:stretch/>
        </p:blipFill>
        <p:spPr>
          <a:xfrm>
            <a:off x="4795920" y="2573280"/>
            <a:ext cx="4182840" cy="239724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1"/>
          <p:cNvGrpSpPr/>
          <p:nvPr/>
        </p:nvGrpSpPr>
        <p:grpSpPr>
          <a:xfrm>
            <a:off x="0" y="1619280"/>
            <a:ext cx="5433840" cy="2014560"/>
            <a:chOff x="0" y="1619280"/>
            <a:chExt cx="5433840" cy="2014560"/>
          </a:xfrm>
        </p:grpSpPr>
        <p:sp>
          <p:nvSpPr>
            <p:cNvPr id="150" name="矩形 16"/>
            <p:cNvSpPr/>
            <p:nvPr/>
          </p:nvSpPr>
          <p:spPr>
            <a:xfrm>
              <a:off x="0" y="1619280"/>
              <a:ext cx="5433840" cy="20145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102600" y="1741320"/>
              <a:ext cx="5266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       </a:t>
              </a:r>
              <a:r>
                <a:rPr b="1" lang="zh-CN" sz="3200" spc="-1" strike="noStrike">
                  <a:solidFill>
                    <a:srgbClr val="3f3f3f"/>
                  </a:solidFill>
                  <a:latin typeface="华文新魏"/>
                  <a:ea typeface="华文新魏"/>
                </a:rPr>
                <a:t>完善对外开放格局，形成对外开放新体制，推进</a:t>
              </a:r>
              <a:r>
                <a:rPr b="1" lang="en-US" sz="3200" spc="-1" strike="noStrike">
                  <a:solidFill>
                    <a:srgbClr val="3f3f3f"/>
                  </a:solidFill>
                  <a:latin typeface="华文新魏"/>
                  <a:ea typeface="华文新魏"/>
                </a:rPr>
                <a:t>“</a:t>
              </a:r>
              <a:r>
                <a:rPr b="1" lang="zh-CN" sz="3200" spc="-1" strike="noStrike">
                  <a:solidFill>
                    <a:srgbClr val="3f3f3f"/>
                  </a:solidFill>
                  <a:latin typeface="华文新魏"/>
                  <a:ea typeface="华文新魏"/>
                </a:rPr>
                <a:t>一带一路</a:t>
              </a:r>
              <a:r>
                <a:rPr b="1" lang="en-US" sz="3200" spc="-1" strike="noStrike">
                  <a:solidFill>
                    <a:srgbClr val="3f3f3f"/>
                  </a:solidFill>
                  <a:latin typeface="华文新魏"/>
                  <a:ea typeface="华文新魏"/>
                </a:rPr>
                <a:t>”</a:t>
              </a:r>
              <a:r>
                <a:rPr b="1" lang="zh-CN" sz="3200" spc="-1" strike="noStrike">
                  <a:solidFill>
                    <a:srgbClr val="3f3f3f"/>
                  </a:solidFill>
                  <a:latin typeface="华文新魏"/>
                  <a:ea typeface="华文新魏"/>
                </a:rPr>
                <a:t>建设，积极参与全球经济治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18" descr="3829896639560363964"/>
          <p:cNvPicPr/>
          <p:nvPr/>
        </p:nvPicPr>
        <p:blipFill>
          <a:blip r:embed="rId3"/>
          <a:stretch/>
        </p:blipFill>
        <p:spPr>
          <a:xfrm>
            <a:off x="469800" y="3741840"/>
            <a:ext cx="418464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6"/>
          <p:cNvSpPr/>
          <p:nvPr/>
        </p:nvSpPr>
        <p:spPr>
          <a:xfrm>
            <a:off x="272880" y="1914480"/>
            <a:ext cx="8509320" cy="306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3800" y="2212920"/>
            <a:ext cx="817560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　　总之，“十三五”时期是我国全面建成小康社会的决胜阶段，任务艰巨。“十三五”期间，我们面临着前所未有的国内外复杂环境，在这种情况下，对完成“十三五”的目标要有清醒的认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4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55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全会提出：坚持计划生育的基本国策。完善人口发展战略，全面实施一对夫妇可生育两个孩子政策，积极开展应对人口老龄化行动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9160" y="4406760"/>
            <a:ext cx="68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独夫妇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10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万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46640" y="4684680"/>
            <a:ext cx="1293840" cy="123840"/>
          </a:xfrm>
          <a:prstGeom prst="rightArrow">
            <a:avLst>
              <a:gd name="adj1" fmla="val 50000"/>
              <a:gd name="adj2" fmla="val 26119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32640" y="4416480"/>
            <a:ext cx="26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107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万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784600"/>
            <a:ext cx="895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截至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014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年年底，我国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岁以上老年人口已达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.12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亿，占总人口的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5.5%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其中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岁以上老年人口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.37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亿，占总人口的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800" y="193680"/>
            <a:ext cx="16052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看点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6:51:00Z</dcterms:created>
  <dc:creator>YJ</dc:creator>
  <dc:description>内部参考使用</dc:description>
  <cp:keywords>密级</cp:keywords>
  <dc:language>en-US</dc:language>
  <cp:lastModifiedBy>User</cp:lastModifiedBy>
  <dcterms:modified xsi:type="dcterms:W3CDTF">2015-11-12T07:53:00Z</dcterms:modified>
  <cp:revision>45</cp:revision>
  <dc:subject/>
  <dc:title>保持党的纯洁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